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4FF99-5AD3-4DB9-96CA-F283600FF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B1FB3-FAEE-4218-BD49-9BE3D945F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D42CB-5273-4FFE-A82E-FAF9948B4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19DB5-CFE3-4C83-8D10-A359BCBE0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EA9486-ECDE-442A-ADED-F896050BCF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42BDB-6EA2-479C-A27A-F0B7A5AF1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44AB3-FA3F-49BD-89E2-8E752B4F4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1BEDD5-919A-4CD0-8554-E1FFFBA4FB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85268-393C-470A-B898-F235BFDFBF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B7949B-6F00-4946-87C3-550A8D678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C158F-2FF0-4489-955F-2DA77F868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FB8A2-6D0B-49B9-AC4C-F10791877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46A7A-E758-4F4E-80CC-862418D80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55D35-DB9E-42E8-8D65-06448E3E1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6C131-FF9C-440E-87A0-E82308BA1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0644BB-12D1-4C43-85BC-A85442EF2B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38E1D8-A207-4751-A118-9AD3DAA687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E4DB2-A092-48B2-A517-D5E0CADFD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A8A0C-1FE8-4CA0-AA12-C0FEE514C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6218D-E985-4C90-BBE1-88E878BBA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64779-7ED6-4029-9D70-897AD9D96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72370-2FF5-424B-90DE-22EE45544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3DB96-BA06-42AC-8D4B-F52ADFE96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B5283-7945-4616-9F3A-447F5A32C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831EE-B18E-4E8E-9CCD-DDFA7C1F2F13}"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8C6A2-E270-4B03-8C8F-7372FC97E492}"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Grades 6-8 iSquad</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Get Going with Zamzar</a:t>
            </a:r>
            <a:r>
              <a:rPr b="1" lang="en-US" sz="4400" spc="-1" strike="noStrike">
                <a:solidFill>
                  <a:srgbClr val="5d2204"/>
                </a:solidFill>
                <a:latin typeface="Arial"/>
              </a:rPr>
              <a:t>	</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9"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sk selected participants to share good educational videos they downloaded from webpages.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s lesson addresses our focusing questions by showing how easy it is to convert files and download videos using Zamzar. </a:t>
            </a:r>
            <a:endParaRPr b="0" lang="en-US" sz="3200" spc="-1" strike="noStrike">
              <a:solidFill>
                <a:srgbClr val="212164"/>
              </a:solidFill>
              <a:latin typeface="Arial"/>
            </a:endParaRPr>
          </a:p>
        </p:txBody>
      </p:sp>
      <p:sp>
        <p:nvSpPr>
          <p:cNvPr id="111"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2"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oday, we used the website Zamzar to convert files from one format to another.</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e downloaded educational videos from websites using Zamzar.</a:t>
            </a:r>
            <a:endParaRPr b="0" lang="en-US" sz="3200" spc="-1" strike="noStrike">
              <a:solidFill>
                <a:srgbClr val="212164"/>
              </a:solidFill>
              <a:latin typeface="Arial"/>
            </a:endParaRPr>
          </a:p>
        </p:txBody>
      </p:sp>
      <p:sp>
        <p:nvSpPr>
          <p:cNvPr id="114"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5"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6"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7"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Using Zamzar, it is easy to convert files from one format to another. </a:t>
            </a:r>
            <a:endParaRPr b="0" lang="en-US" sz="2800" spc="-1" strike="noStrike">
              <a:solidFill>
                <a:srgbClr val="212164"/>
              </a:solidFill>
              <a:latin typeface="Arial"/>
            </a:endParaRPr>
          </a:p>
          <a:p>
            <a:pPr marL="281160" indent="-28116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Zamzar allows users to submit a web address that holds a video. By submitting the web address, the video is downloaded for viewing on any computer.  </a:t>
            </a:r>
            <a:endParaRPr b="0" lang="en-US" sz="2800" spc="-1" strike="noStrike">
              <a:solidFill>
                <a:srgbClr val="212164"/>
              </a:solidFill>
              <a:latin typeface="Arial"/>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28116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18"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I convert files to different formats to make it possible to use with my software?</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I download educational videos from websites to be shown in the classroom?</a:t>
            </a: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Many times teachers have a document that is not compatible with the software on their computers.  Recently, Microsoft released Office 2007, which uses xml file formats such as .docx or xlsx.  These file formats will not work on older versions of Microsoft Office.  However, with the website Zamzar, teachers can convert Office files to the older format to work on their computers.  </a:t>
            </a:r>
            <a:endParaRPr b="0" lang="en-US" sz="2000" spc="-1" strike="noStrike">
              <a:solidFill>
                <a:srgbClr val="212164"/>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In addition, Zamzar allows users to download videos from websites.  This will be useful for teachers that want to show educational videos in the class and cannot find what they are looking for on United Streaming.  </a:t>
            </a:r>
            <a:endParaRPr b="0" lang="en-US" sz="2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atch me as I show you the following:</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 am going to load the webpage Zamzar.com.  Next I will convert a file from .docx to.doc to demonstrate the file conversion process. Afterwards, I will download a video to be used in the classroom.</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Zamzar will help teachers convert files and save time.  Now teachers will be able to download educational videos at home, bring them to school, and show them to the class.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During this time, you will convert several files from one format to another. Experiment and see which conversion works best.  Also find a website that includes educational videos.  Download one educatonal video.</a:t>
            </a:r>
            <a:endParaRPr b="0" lang="en-US" sz="2800" spc="-1" strike="noStrike">
              <a:solidFill>
                <a:srgbClr val="212164"/>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Take the next 30 minutes to complete the following steps and then we will come back together and share.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Participants will...</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Go to www.zamzar.com</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tep 1- Click on the browse button and select the file.</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tep 2- Select the file conversion:  .jpeg, .html, etc.</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tep 3- Enter your email address</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tep 4- Click the convert button</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To download videos from a website</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Click the download videos tab</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 </a:t>
            </a:r>
            <a:r>
              <a:rPr b="0" lang="en-US" sz="2000" spc="-1" strike="noStrike">
                <a:solidFill>
                  <a:srgbClr val="212164"/>
                </a:solidFill>
                <a:latin typeface="Arial"/>
              </a:rPr>
              <a:t>Step 1- Enter web address</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 </a:t>
            </a:r>
            <a:r>
              <a:rPr b="0" lang="en-US" sz="2000" spc="-1" strike="noStrike">
                <a:solidFill>
                  <a:srgbClr val="212164"/>
                </a:solidFill>
                <a:latin typeface="Arial"/>
              </a:rPr>
              <a:t>Step 2- Choose format to convert files: mp4, .mov, etc.</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 </a:t>
            </a:r>
            <a:r>
              <a:rPr b="0" lang="en-US" sz="2000" spc="-1" strike="noStrike">
                <a:solidFill>
                  <a:srgbClr val="212164"/>
                </a:solidFill>
                <a:latin typeface="Arial"/>
              </a:rPr>
              <a:t>Step 3- Enter email address</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 </a:t>
            </a:r>
            <a:r>
              <a:rPr b="0" lang="en-US" sz="2000" spc="-1" strike="noStrike">
                <a:solidFill>
                  <a:srgbClr val="212164"/>
                </a:solidFill>
                <a:latin typeface="Arial"/>
              </a:rPr>
              <a:t>Step 4- Click convert button</a:t>
            </a:r>
            <a:endParaRPr b="0" lang="en-US" sz="2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08-05-14T13:34:09Z</dcterms:modified>
  <cp:revision>5</cp:revision>
  <dc:subject/>
  <dc:title>Workshop Title</dc:title>
</cp:coreProperties>
</file>